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3E6-F5F6-48E6-A1AF-5AC255EC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96D-5617-4D66-ADFF-3E1C8B21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9FB-21CB-4C48-9417-983C8473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536-7433-4070-96DC-CDE7F3DE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B44-3540-4EAD-97D1-6B240357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A774-29F4-4347-A058-2A117F17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A11E-77B4-43F0-9F44-0224CD6C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6FA-009D-4DC8-BBB2-6649130A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3FD-9DD1-4042-9BD3-3C0409ED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A5F-7372-4B52-A53E-A49B699B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6D5-7253-477B-B501-A0DEB44E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49E-B2D9-4EEB-9E6B-9BE72BDC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30B7-C0D4-484A-B5B6-71BA51395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BRSO030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304920"/>
            <a:ext cx="2971800" cy="9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رعاةٌ خبِّرونا  هل جرى أمرٌ غر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خبرونا بشِّرونا  ما هذا السرُّ العج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BRSO040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457200"/>
            <a:ext cx="3429000" cy="78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لاحَ في أوجِ السماء  نيِّرٌ زاه جد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وسمعنا في العلاءِ    والصدى كان يُعيد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4458854PUJPRwcavG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91320" y="380880"/>
            <a:ext cx="3124080" cy="9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بيتَ لحمَ مَن أَتاكِ   مَن غدا فيكِ مُق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َن به زالَ شَقاكِ   مَن هو المولى العظيم</a:t>
            </a:r>
            <a:r>
              <a:rPr b="0" lang="ar-SA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9438873JQfExr_ph" descr=""/>
          <p:cNvPicPr/>
          <p:nvPr/>
        </p:nvPicPr>
        <p:blipFill>
          <a:blip r:embed="rId1"/>
          <a:stretch/>
        </p:blipFill>
        <p:spPr>
          <a:xfrm>
            <a:off x="0" y="0"/>
            <a:ext cx="5641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1320" y="304920"/>
            <a:ext cx="3124080" cy="9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أَعلِموا كلَّ العِبادِ   بَشّروا في العال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أتانا اليومَ فادي فابشِرو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مؤمن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5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5121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4120" y="380880"/>
            <a:ext cx="3352680" cy="70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الِقُ الأكوان حلَّ  مذوداً للحي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َهوَ في العُليا تَجلّى  فوقَ عرشٍ من جُ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09:22:14Z</dcterms:created>
  <dc:creator>SUZANNE.MD</dc:creator>
  <dc:description/>
  <dc:language>en-US</dc:language>
  <cp:lastModifiedBy>USER</cp:lastModifiedBy>
  <dcterms:modified xsi:type="dcterms:W3CDTF">2002-12-30T22:36:21Z</dcterms:modified>
  <cp:revision>3</cp:revision>
  <dc:subject/>
  <dc:title>PowerPoint Presentation</dc:title>
</cp:coreProperties>
</file>